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3573-8F3D-4E7A-988C-4A859BBBF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3097-1444-44F2-AC2B-26ACF7648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D905-7FA0-4ADA-AA6D-E7925FF21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FA0F-3629-4E44-8580-84E645FEA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6C48-737C-4EF5-8A0B-C9D011E60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07E0-7D8C-4DE2-8BD5-017B6707C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4884-2FFD-4D12-A705-F553C49AE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1A14-2307-4A95-993E-58ED75437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8D02-79E4-4D1F-B746-A0F343A81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81E4-1AD1-471B-892E-B13F297A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D965-06FF-4E22-B445-A4286C04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B554-748B-47A1-A434-B27DE976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4AC31-B5A8-46F6-9372-8A1CEA23F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be0e3"/>
                </a:solidFill>
                <a:latin typeface="Arial Narrow"/>
              </a:rPr>
              <a:t>Memorial Acclamation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ith this bread and this c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e do as our Saviour command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e celebrate the redemp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he has won for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hrist has di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hrist is ris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hrist will come aga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23:34:20Z</dcterms:created>
  <dc:creator>Anon Anon</dc:creator>
  <dc:description/>
  <dc:language>en-US</dc:language>
  <cp:lastModifiedBy>Anon Anon</cp:lastModifiedBy>
  <dcterms:modified xsi:type="dcterms:W3CDTF">2005-08-09T05:10:19Z</dcterms:modified>
  <cp:revision>8</cp:revision>
  <dc:subject/>
  <dc:title>PowerPoint Presentation</dc:title>
</cp:coreProperties>
</file>